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D1259-CC1E-4712-8FB4-3C353D720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F0626-BFAE-40CF-AC99-9ED2975D4A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DC295-5F68-4349-B1E6-F84405610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32F64-30CC-4BF3-8177-8ADB127DEF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81F2C-CCCC-49FD-B516-7866078C67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79A41-04DF-4F37-BF40-6CD38D465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F3843-0F24-48E2-9840-28D50008B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0543E-13D4-4BF3-91E5-9B652C723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CF3EE-111B-4D32-9B12-9B4906FBC7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6AEB6-43D1-4D15-9C4B-D5182189BD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84B20-C85F-4201-9B5A-E52CCE6BB9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70DA1-C5AC-4C3A-8F4C-8FB99A4F56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78AE7-D50A-4D39-A937-EBF3264AF5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BFD03-3E31-4A44-B879-2A1AF83870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B0FCE-338F-4EA6-A5E6-5AD7862640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CD5C-B0D5-4A4A-ACFF-1516A47FAB9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F6D6-69CD-47AB-9A70-992085F1B30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9431-21DF-484E-9697-9E58D2902F0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ED5C-A09C-42B3-A495-C144967D866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3319-EED5-4702-BFE9-CC6D88AED19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A628-3188-4102-A60A-7687CE4E7E0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0CBE-AE34-49AB-8A32-3F53B73B3F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19869-0058-4EF5-B79C-C3DA060F55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A45E-F6EB-4DF2-ADDF-7A00247A9E9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1CF5-F27F-40E3-8CCE-4A704643A49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5DF0-E319-4403-9E76-F518AE78C6B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4C16-E837-4C32-8BD8-7CE76C1D4F3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88E0-01A7-41AA-8E47-B16371D2CB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4B058-AB2E-4593-A553-708F7FF1C3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59A6D-B0BE-45A1-8DAA-9F1F6CC9CD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9330A-5B46-45C3-8776-BF98B17B7B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B457A-CC65-48BA-8D08-644D5CFA07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BF99C-86D8-43E8-A6D3-985A594293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726D2-7402-4714-A2AD-98E06BD391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BCF1C-2C28-4AD7-8210-6FC041E1A2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EC0F1-96A4-42A3-B94B-23451431B8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511AB-97C4-4993-8195-6573786A42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EQA Scheme Organization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AB5B-3F59-427E-8030-62882600B9A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interests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im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fidentiali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cknowle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m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A5E83-4898-4329-B2E9-B88A6C83E90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ries, feedback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ference” role of the EQ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s and recommendation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participating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solv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recommending certai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2514600" cy="188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05320" y="4343400"/>
            <a:ext cx="5105160" cy="1641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erfect is not too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B4446-53C1-49B4-8554-B21E9EA92F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 already controlled by a international EQA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involve the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i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non-contaminat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good communication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ay careful attention to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SimSun"/>
              </a:rPr>
              <a:t>Starting an EQA Program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7d"/>
                </a:solidFill>
                <a:latin typeface="Verdana"/>
                <a:ea typeface="SimSu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AB43D-1B50-442C-B4DB-5E79DC57E0C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38680" y="20574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148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163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164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165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170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74"/>
              <p:cNvSpPr/>
              <p:nvPr/>
            </p:nvSpPr>
            <p:spPr>
              <a:xfrm>
                <a:off x="22654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173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174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179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184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188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191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197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200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203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4726A-8A25-4C6C-BBBE-752BFBCD065B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proficiency test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of laboratories – interlaboratory comparisons/re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on-site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4EA90-8E8A-4EAC-92AB-C301C4057B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rior Participation (and Success!) in a PT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SimSun"/>
              </a:rPr>
              <a:t>need to subscribe to a foreig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monitor its ow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mperative and oblig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 question o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04468-2B51-4295-B41C-DD7B26435D8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Involve th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guarantees </a:t>
            </a:r>
            <a:r>
              <a:rPr b="0" lang="en-GB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ed to the institution’s 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mean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liaise with operating licensing / certification / accreditation / national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(EQA activiti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reate saving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them is wor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213372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E6CEB-1BB5-4510-AA43-14D2866B22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im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roficienc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, stained or uns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Gram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acid-fast bacilli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of bacterial s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nteric microorganism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Re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 (AFB, Gram, CSF,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bacterial strains if materials and technical capability is present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strain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952880" y="2362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E6F8B-C8BC-4741-B4BC-1F43650D63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mall number of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ilo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verify transport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ries for a tes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outside of the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first study with basic materials (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ries for the fir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items per parcel (minimum 2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51360" cy="2590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9759200">
            <a:off x="7238880" y="22096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2E28E-464B-4571-837C-92CE8BA42DB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SimSun"/>
              </a:rPr>
              <a:t>Start with Non-Contaminat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n the beginning, avoid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dangerous” pathoge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ntaminated s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follow national transportation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D17F1-8A0D-4634-AD00-ADC54BE9C80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hysica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al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smal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E81F6-C99A-4CA4-B6A5-DF149DDA808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articipating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scientific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rofession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ny other with interest in 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EQ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07D19-F89A-4631-987F-3F711C6CBB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Robin Barteluk</cp:lastModifiedBy>
  <dcterms:modified xsi:type="dcterms:W3CDTF">2008-11-28T02:21:01Z</dcterms:modified>
  <cp:revision>12</cp:revision>
  <dc:subject/>
  <dc:title>EQA scheme Organization optional</dc:title>
</cp:coreProperties>
</file>